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988-D6C2-45DF-9424-A287DA82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DC3-55E0-43DB-BED4-377645ED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377-D20E-4816-9350-672D3AFC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F99-62CF-424E-9260-1DFF213B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DF91-90E4-41F2-BBFB-B569B655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B133-23EF-4B96-8C00-6CECA251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7CEC-38A0-465C-B547-1A07488F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2258-51B1-41DB-9339-EFB7EDEA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E593-78DA-4A79-8554-AD2B67E0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373B-8C45-4A65-8DF4-0F26D15E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C39-8355-4723-9361-B23A214F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8EA-3BF3-4C25-A4D4-A8B9523E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C7B2-848F-40B2-A042-9668F17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683A-E7FB-4332-8499-B2420AAB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46EB-5941-4212-8BB0-D07E8D93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210F-E3DF-4DB0-8FB7-E3304428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27C4-738F-4CE2-B134-9F357EDD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9AA-2AA7-4961-A723-4DEEE4D1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149-0B49-4B8D-B076-C5AE630A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2EB-D278-4B22-A359-68569F33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F52-F8E7-47CE-A38A-E9E6CAE8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004-6321-49D3-8C01-D93D30E9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72D-AC58-462D-A9B2-A1B7420F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38F-A267-44A6-8579-9610C4B9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C7F4-6B87-4D18-B80F-7B15C43FB983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C145-CC09-468A-B47E-BB799A57FE2C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388360" cy="201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0082[1]"/>
          <p:cNvPicPr/>
          <p:nvPr/>
        </p:nvPicPr>
        <p:blipFill>
          <a:blip r:embed="rId2"/>
          <a:stretch/>
        </p:blipFill>
        <p:spPr>
          <a:xfrm>
            <a:off x="920880" y="3303720"/>
            <a:ext cx="3449520" cy="27255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arctik02.jpg"/>
          <p:cNvPicPr/>
          <p:nvPr/>
        </p:nvPicPr>
        <p:blipFill>
          <a:blip r:embed="rId3"/>
          <a:stretch/>
        </p:blipFill>
        <p:spPr>
          <a:xfrm>
            <a:off x="4638600" y="3352680"/>
            <a:ext cx="3799080" cy="2908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на острове Вранге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на земле Фран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осиф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Северной Зем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полуостров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ймы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000080" y="114300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9. Арктический заповедник расположен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0">
            <a:hlinkClick r:id="" action="ppaction://hlinkshowjump?jump=previousslide"/>
          </p:cNvPr>
          <p:cNvSpPr/>
          <p:nvPr/>
        </p:nvSpPr>
        <p:spPr>
          <a:xfrm>
            <a:off x="856620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12872"/>
                </a:moveTo>
                <a:lnTo>
                  <a:pt x="17806" y="5866"/>
                </a:lnTo>
                <a:lnTo>
                  <a:pt x="17806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полярники делаю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 льду проруб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запрещена охота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дких живот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зяты под охра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птичьи базары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прещено движение су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Северному морскому пути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1000080" y="114300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10. Для защиты природы Арктики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) на островах Северног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Ледовитого океа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) на островах: Врангел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восибирские, Северная Зем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остров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хого океа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остров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тлантического океа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8">
            <a:hlinkClick r:id="" action="ppaction://hlinkshowjump?jump=nextslide"/>
          </p:cNvPr>
          <p:cNvSpPr/>
          <p:nvPr/>
        </p:nvSpPr>
        <p:spPr>
          <a:xfrm>
            <a:off x="852948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5866"/>
                </a:moveTo>
                <a:lnTo>
                  <a:pt x="17806" y="12872"/>
                </a:lnTo>
                <a:lnTo>
                  <a:pt x="3794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000080" y="100008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1. Природная зона Арктики расположен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не имеет коренног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густо заселе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юдь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е заселена людь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меет коренно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000080" y="100008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2. Территория зоны Аркти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8">
            <a:hlinkClick r:id="" action="ppaction://hlinkshowjump?jump=nextslide"/>
          </p:cNvPr>
          <p:cNvSpPr/>
          <p:nvPr/>
        </p:nvSpPr>
        <p:spPr>
          <a:xfrm>
            <a:off x="852948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5866"/>
                </a:moveTo>
                <a:lnTo>
                  <a:pt x="17806" y="12872"/>
                </a:lnTo>
                <a:lnTo>
                  <a:pt x="3794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10">
            <a:hlinkClick r:id="" action="ppaction://hlinkshowjump?jump=previousslide"/>
          </p:cNvPr>
          <p:cNvSpPr/>
          <p:nvPr/>
        </p:nvSpPr>
        <p:spPr>
          <a:xfrm>
            <a:off x="800100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12872"/>
                </a:moveTo>
                <a:lnTo>
                  <a:pt x="17806" y="5866"/>
                </a:lnTo>
                <a:lnTo>
                  <a:pt x="17806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из-за холода и моро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из-за сильных ветр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з-за близ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Северному полюс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з-за удалё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эква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000080" y="100008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3. В зоне сложились суровые услов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8">
            <a:hlinkClick r:id="" action="ppaction://hlinkshowjump?jump=nextslide"/>
          </p:cNvPr>
          <p:cNvSpPr/>
          <p:nvPr/>
        </p:nvSpPr>
        <p:spPr>
          <a:xfrm>
            <a:off x="852948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5866"/>
                </a:moveTo>
                <a:lnTo>
                  <a:pt x="17806" y="12872"/>
                </a:lnTo>
                <a:lnTo>
                  <a:pt x="3794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10">
            <a:hlinkClick r:id="" action="ppaction://hlinkshowjump?jump=previousslide"/>
          </p:cNvPr>
          <p:cNvSpPr/>
          <p:nvPr/>
        </p:nvSpPr>
        <p:spPr>
          <a:xfrm>
            <a:off x="800100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12872"/>
                </a:moveTo>
                <a:lnTo>
                  <a:pt x="17806" y="5866"/>
                </a:lnTo>
                <a:lnTo>
                  <a:pt x="17806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мхи и чёр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шайн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полярные маки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ёлтые лишай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тёмно-зелё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шайники и чер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бузина и ряб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1000080" y="12859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4. В ледяной зоне расту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8">
            <a:hlinkClick r:id="" action="ppaction://hlinkshowjump?jump=nextslide"/>
          </p:cNvPr>
          <p:cNvSpPr/>
          <p:nvPr/>
        </p:nvSpPr>
        <p:spPr>
          <a:xfrm>
            <a:off x="852948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5866"/>
                </a:moveTo>
                <a:lnTo>
                  <a:pt x="17806" y="12872"/>
                </a:lnTo>
                <a:lnTo>
                  <a:pt x="3794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10">
            <a:hlinkClick r:id="" action="ppaction://hlinkshowjump?jump=previousslide"/>
          </p:cNvPr>
          <p:cNvSpPr/>
          <p:nvPr/>
        </p:nvSpPr>
        <p:spPr>
          <a:xfrm>
            <a:off x="800100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12872"/>
                </a:moveTo>
                <a:lnTo>
                  <a:pt x="17806" y="5866"/>
                </a:lnTo>
                <a:lnTo>
                  <a:pt x="17806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пингвины и север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л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белые медведи и ки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бурые медвед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вол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ржи и тюлен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000080" y="12859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5. В Арктике обитаю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8">
            <a:hlinkClick r:id="" action="ppaction://hlinkshowjump?jump=nextslide"/>
          </p:cNvPr>
          <p:cNvSpPr/>
          <p:nvPr/>
        </p:nvSpPr>
        <p:spPr>
          <a:xfrm>
            <a:off x="852948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5866"/>
                </a:moveTo>
                <a:lnTo>
                  <a:pt x="17806" y="12872"/>
                </a:lnTo>
                <a:lnTo>
                  <a:pt x="3794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0">
            <a:hlinkClick r:id="" action="ppaction://hlinkshowjump?jump=previousslide"/>
          </p:cNvPr>
          <p:cNvSpPr/>
          <p:nvPr/>
        </p:nvSpPr>
        <p:spPr>
          <a:xfrm>
            <a:off x="800100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12872"/>
                </a:moveTo>
                <a:lnTo>
                  <a:pt x="17806" y="5866"/>
                </a:lnTo>
                <a:lnTo>
                  <a:pt x="17806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гагары и туп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кайры и чай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ачки и водоросл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гуси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лые куроп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000080" y="114300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6. «Птичьи базары» посещаю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8">
            <a:hlinkClick r:id="" action="ppaction://hlinkshowjump?jump=nextslide"/>
          </p:cNvPr>
          <p:cNvSpPr/>
          <p:nvPr/>
        </p:nvSpPr>
        <p:spPr>
          <a:xfrm>
            <a:off x="852948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5866"/>
                </a:moveTo>
                <a:lnTo>
                  <a:pt x="17806" y="12872"/>
                </a:lnTo>
                <a:lnTo>
                  <a:pt x="3794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10">
            <a:hlinkClick r:id="" action="ppaction://hlinkshowjump?jump=previousslide"/>
          </p:cNvPr>
          <p:cNvSpPr/>
          <p:nvPr/>
        </p:nvSpPr>
        <p:spPr>
          <a:xfrm>
            <a:off x="800100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12872"/>
                </a:moveTo>
                <a:lnTo>
                  <a:pt x="17806" y="5866"/>
                </a:lnTo>
                <a:lnTo>
                  <a:pt x="17806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водоросли→рачки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айки →туп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сайки→бел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дведи→тюл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ачки→рыбы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юлени→белые медвед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росли→рачки→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ыбы→гагарки→белые медвед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000080" y="114300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7. Верные цепи питания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8">
            <a:hlinkClick r:id="" action="ppaction://hlinkshowjump?jump=nextslide"/>
          </p:cNvPr>
          <p:cNvSpPr/>
          <p:nvPr/>
        </p:nvSpPr>
        <p:spPr>
          <a:xfrm>
            <a:off x="852948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5866"/>
                </a:moveTo>
                <a:lnTo>
                  <a:pt x="17806" y="12872"/>
                </a:lnTo>
                <a:lnTo>
                  <a:pt x="3794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0">
            <a:hlinkClick r:id="" action="ppaction://hlinkshowjump?jump=previousslide"/>
          </p:cNvPr>
          <p:cNvSpPr/>
          <p:nvPr/>
        </p:nvSpPr>
        <p:spPr>
          <a:xfrm>
            <a:off x="800100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12872"/>
                </a:moveTo>
                <a:lnTo>
                  <a:pt x="17806" y="5866"/>
                </a:lnTo>
                <a:lnTo>
                  <a:pt x="17806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4"/>
          <p:cNvSpPr/>
          <p:nvPr/>
        </p:nvSpPr>
        <p:spPr>
          <a:xfrm>
            <a:off x="16200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рыболовство и ох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657680" y="29289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полярные станции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учные экспеди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4292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ыращивание овощ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фрук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4657680" y="4300560"/>
            <a:ext cx="4343400" cy="106668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азведение крупн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000080" y="114300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Arial"/>
                <a:ea typeface="Arial"/>
              </a:rPr>
              <a:t>8. Занятия людей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8">
            <a:hlinkClick r:id="" action="ppaction://hlinkshowjump?jump=nextslide"/>
          </p:cNvPr>
          <p:cNvSpPr/>
          <p:nvPr/>
        </p:nvSpPr>
        <p:spPr>
          <a:xfrm>
            <a:off x="852948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5866"/>
                </a:moveTo>
                <a:lnTo>
                  <a:pt x="17806" y="12872"/>
                </a:lnTo>
                <a:lnTo>
                  <a:pt x="3794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10">
            <a:hlinkClick r:id="" action="ppaction://hlinkshowjump?jump=previousslide"/>
          </p:cNvPr>
          <p:cNvSpPr/>
          <p:nvPr/>
        </p:nvSpPr>
        <p:spPr>
          <a:xfrm>
            <a:off x="8001000" y="6138720"/>
            <a:ext cx="363600" cy="433440"/>
          </a:xfrm>
          <a:custGeom>
            <a:avLst/>
            <a:gdLst>
              <a:gd name="textAreaLeft" fmla="*/ 23400 w 363600"/>
              <a:gd name="textAreaRight" fmla="*/ 340200 w 363600"/>
              <a:gd name="textAreaTop" fmla="*/ 23400 h 433440"/>
              <a:gd name="textAreaBottom" fmla="*/ 410040 h 433440"/>
            </a:gdLst>
            <a:ahLst/>
            <a:rect l="textAreaLeft" t="textAreaTop" r="textAreaRight" b="textAreaBottom"/>
            <a:pathLst>
              <a:path w="21600" h="25745">
                <a:moveTo>
                  <a:pt x="0" y="0"/>
                </a:moveTo>
                <a:lnTo>
                  <a:pt x="21600" y="0"/>
                </a:lnTo>
                <a:lnTo>
                  <a:pt x="21600" y="25745"/>
                </a:lnTo>
                <a:lnTo>
                  <a:pt x="0" y="25745"/>
                </a:lnTo>
                <a:close/>
              </a:path>
              <a:path fill="lightenLess" w="21600" h="25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5">
                <a:moveTo>
                  <a:pt x="21600" y="0"/>
                </a:moveTo>
                <a:lnTo>
                  <a:pt x="21600" y="25745"/>
                </a:lnTo>
                <a:lnTo>
                  <a:pt x="20200" y="24345"/>
                </a:lnTo>
                <a:lnTo>
                  <a:pt x="20200" y="1400"/>
                </a:lnTo>
                <a:close/>
              </a:path>
              <a:path fill="darkenLess" w="21600" h="25745">
                <a:moveTo>
                  <a:pt x="21600" y="25745"/>
                </a:moveTo>
                <a:lnTo>
                  <a:pt x="0" y="25745"/>
                </a:lnTo>
                <a:lnTo>
                  <a:pt x="1400" y="24345"/>
                </a:lnTo>
                <a:lnTo>
                  <a:pt x="20200" y="24345"/>
                </a:lnTo>
                <a:close/>
              </a:path>
              <a:path fill="lighten" w="21600" h="25745">
                <a:moveTo>
                  <a:pt x="0" y="25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5"/>
                </a:lnTo>
                <a:close/>
              </a:path>
              <a:path fill="darken" w="21600" h="25745">
                <a:moveTo>
                  <a:pt x="3794" y="12872"/>
                </a:moveTo>
                <a:lnTo>
                  <a:pt x="17806" y="5866"/>
                </a:lnTo>
                <a:lnTo>
                  <a:pt x="17806" y="19879"/>
                </a:lnTo>
                <a:close/>
              </a:path>
            </a:pathLst>
          </a:cu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5:57:12Z</dcterms:created>
  <dc:creator>User</dc:creator>
  <dc:description/>
  <dc:language>en-US</dc:language>
  <cp:lastModifiedBy>Nastya</cp:lastModifiedBy>
  <dcterms:modified xsi:type="dcterms:W3CDTF">2010-10-26T17:20:01Z</dcterms:modified>
  <cp:revision>37</cp:revision>
  <dc:subject/>
  <dc:title>КТО  ХОЧЕТ   СТАТЬ   МИЛЛИОНЕРОМ?</dc:title>
</cp:coreProperties>
</file>